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946-976E-4418-8BB8-76FC0C00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856D-92C2-4FB2-A4BB-EF56DD82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3BE-991B-454A-92F1-7EC6CEC2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745-AFCE-4F75-88A8-00A28145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B130-4653-4697-8159-4F504D97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132A-98D2-4917-AA86-7A818489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17E3-A5DF-4D48-8023-C38FB6F3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ACC4-104D-42EC-A4FE-437F3B2F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8FF2-FF3C-48DA-B69E-4B2FD994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EC37-FDCB-4BC8-84F8-1C0A114B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60E2-03CF-4EE1-B197-4A3AD949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56D-5058-4A30-AE43-9DE2839D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4E37-A4AE-49E4-9EE6-B3263871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0BFB-AF6D-407B-8CF0-0C244417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16F1-9015-428B-99A3-8CF46A31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A998-1B30-4F22-A69F-3AA60163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50ED-44B2-4F84-91B0-E322CA08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B8A8C-CD51-4584-9136-5C0B9424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36C24-3A0A-4ECD-AFD6-1725C744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00A0-1EC0-42CD-BA0E-741A3C3C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93D25-DC42-4C26-AAA1-0ABC8E1A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969FF-9828-4314-802B-3153FD46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086-2EBB-453B-8919-D28E5939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5AAB-2EFF-4A9C-86B2-FE8BBD72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161D-A721-4827-B4A8-DFC97441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FF1F-AB1E-4BA5-93EA-F142BA8F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75E7E-CDE4-4F1E-9339-D47B2BC7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2372-13F1-492A-84A0-6ED051B4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04D4-A536-4BF4-A94F-759D95BC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2815-87FD-4C2A-8900-702E7CCA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366E4-8B03-4252-9C2C-DBE81905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02949-9952-4EAA-B59C-9D07B5FA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DE78F-917C-49B8-95B2-DF7C0B36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DD9-2794-4228-BB00-EC9D0967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3B4C6-C9B2-478D-BA8B-31BA5C9F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33BFC-BDE9-42B7-AB89-F036B66E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5E24A-0AC0-4F20-94A5-B8279417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E2525-EE23-4A81-86FA-59C716FD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D861E-535D-4DB4-AE18-0BD26C62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241E8-2FD6-4D5A-B9C6-D5D977BE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238C1-88AD-4B9F-981D-C8A186D5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B2BAA-04EF-477D-9255-E3553602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8F3CF-D0AC-4EB4-9482-FA4787AD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F860F-5EAC-405A-83E0-E3C6A050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0F9B-2469-4F88-81ED-FE583C15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E0E80-9B8C-4F80-B609-1441F1BF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78BC9-93C2-4923-8D91-8EC2A643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13D47-4F36-4715-901F-772A1C3D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8B2D7-DF73-4000-BB27-402BECB5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698CF-E383-4F4D-8B04-3E11929A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91784-88FF-4D76-ACDF-1A8ABC80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C3343-783F-43FF-B23C-BCE45CDF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1118D-0A5E-440B-A058-1837E8B9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FF593-7DD4-4F92-8AA1-B651CDE0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1A53B-FF06-45FF-A0BA-6F7279BA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352-CD30-4A3A-83DE-C5DFD25B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53D70-53E7-4480-A950-BF5E4A17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2A0D6-1B15-4502-9A96-837C1AAA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E90BA-525E-4D52-82DC-3107993E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C4239-3F00-4843-BE89-A2917E82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F520B-9B9A-4050-AACF-F112D4E5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AD1DA-EE2D-43F3-9E31-611FA300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AD599-22E0-4721-AD40-8350D9E7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1AA04-D64D-4A71-8D0F-1EE4BEB1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74267-7B52-45A3-ACB7-40C6D837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B684B-FA87-4C2A-A3F7-274B2307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CFF-F71C-49A8-9B54-BC8D73D7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0B75B-B7BB-4D04-BD3E-69606D69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68E48-9DB6-4B1F-B8E6-5D314B3B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1C6C1-F887-41E7-B0DA-4B764C6B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D9C5F-A288-47E2-9B14-7AE16980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B7B90-07E8-4122-8B74-450FD7E6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4AD4E-EC53-4C3F-9727-AACD20A4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EE288-D270-41CB-B3F2-107E97C8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6CFEE-55B0-4FDE-8BA0-EA199587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55990-497F-47FD-9CCB-19E189E1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6A9D1-AB86-46D0-8FCD-E33C67B3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B16-0787-4006-9E27-84E14A8F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B7184-4CAB-4BE3-B838-280017DD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8C1EE-DF51-458F-9157-C559EC0C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2050A-50EF-4DDB-A75C-998208C4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09D24-08DE-46B1-889C-1034B7F3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EC7F2-BEDA-46C4-878D-EAAE8706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3719A-75D9-4B7B-8F22-76257F29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09F02-4649-4D29-804C-93F60C8C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5C30A-CF18-44B3-99A3-1C66E504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572B0-320D-4F58-833B-E8B26A8F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F2361-E6E1-4E62-8625-3DCFAC9B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D9A-7DD5-4079-B331-9D77979C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9127C-4A9C-44A6-81F7-DBEB5BC4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9F0A3-D4F6-4411-B289-48E46611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AA45F-B916-4D2E-A345-7A5ADD10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796E7-A7CD-498F-8803-2D5B2238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AA88C-0B8F-4518-932A-990E371B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6334A-867C-47BE-AA7A-246E2478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DEC19-70B1-4911-9A9C-F1F72EFF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CA28-F9BA-42C4-B949-C1012591B009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96AE-C554-45C7-96A6-0723A320C89B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65EC-BC8A-4383-8ECF-95A7D4897040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5B53-ED15-49C3-8C1B-3AE3DB98E6BB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7AA6-C2CA-47F7-8A7F-32BA8420C696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6A8D-2D4B-4B4C-84E6-168A45D28D7D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A2AB-24E2-41AC-AEBD-56B1E2A7C602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8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072B-AEB4-4246-B328-45D994607DE8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BUDGET PROPOSA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Garamond"/>
              </a:rPr>
              <a:t>Abegail Prad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HAT IS NEEDED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 increase student use of the Media Center for pleasure reading by creating a comfortable and attractive reading area with high interest reading materi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urchas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514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Kid’s reading chair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240" y="1294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RESEARCH SAY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en readers come to the library, the first impression is building and layout environment. The library should strive to create a friendly, embodying humanistic care, making the reader comfortable and unforgettable reading situation (Mei, 2014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TextBox 3"/>
          <p:cNvSpPr/>
          <p:nvPr/>
        </p:nvSpPr>
        <p:spPr>
          <a:xfrm>
            <a:off x="628920" y="6216480"/>
            <a:ext cx="7235280" cy="307080"/>
          </a:xfrm>
          <a:prstGeom prst="rect">
            <a:avLst/>
          </a:prstGeom>
          <a:solidFill>
            <a:srgbClr val="766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i, X. (2014). To create a happy reading at library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Quality &amp; Quantity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8(2), 1143-1147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6"/>
          <p:cNvSpPr/>
          <p:nvPr/>
        </p:nvSpPr>
        <p:spPr>
          <a:xfrm>
            <a:off x="914400" y="2590920"/>
            <a:ext cx="4038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 pieces Soft Reading Moon Se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838080" y="5334120"/>
            <a:ext cx="1157400" cy="3808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5"/>
          <p:cNvSpPr/>
          <p:nvPr/>
        </p:nvSpPr>
        <p:spPr>
          <a:xfrm>
            <a:off x="4038480" y="3048120"/>
            <a:ext cx="41911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0”x15”x15”, 4 lb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igh-density foam seating keeps its shap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hthalate-free vinyl cov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asy cleaning with soap and wa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nti-slip base keeps seats in plac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733560" y="2895480"/>
            <a:ext cx="4647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34" x 33" x 29“, 62 lbs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otating 15"W x 11"D, laminated furniture board table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rovides handy surfaces for laptops and paperwork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turdy wood frames are covered with thick   foam cushion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Locking 2" diameter casters 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TextBox 3"/>
          <p:cNvSpPr/>
          <p:nvPr/>
        </p:nvSpPr>
        <p:spPr>
          <a:xfrm>
            <a:off x="864360" y="251460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2 pieces OFM Interplay Tablet Chai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8" name="Picture 7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209680" cy="19904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11574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733560" y="2895480"/>
            <a:ext cx="4647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20" x 20" x 20“, 23 lb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urable high-pressure laminate tops and a sturdy metal fram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930600" y="251460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Lesro Newport Reception End Tab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1157400" cy="380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1648080" cy="1447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1044720" cy="1068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4"/>
          <a:stretch/>
        </p:blipFill>
        <p:spPr>
          <a:xfrm>
            <a:off x="2666880" y="4694400"/>
            <a:ext cx="990720" cy="1020600"/>
          </a:xfrm>
          <a:prstGeom prst="rect">
            <a:avLst/>
          </a:prstGeom>
          <a:ln w="0">
            <a:noFill/>
          </a:ln>
        </p:spPr>
      </p:pic>
      <p:cxnSp>
        <p:nvCxnSpPr>
          <p:cNvPr id="368" name="Straight Arrow Connector 10"/>
          <p:cNvCxnSpPr/>
          <p:nvPr/>
        </p:nvCxnSpPr>
        <p:spPr>
          <a:xfrm flipH="1" flipV="1">
            <a:off x="1523160" y="3656880"/>
            <a:ext cx="38196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69" name="Straight Arrow Connector 15"/>
          <p:cNvCxnSpPr/>
          <p:nvPr/>
        </p:nvCxnSpPr>
        <p:spPr>
          <a:xfrm>
            <a:off x="2286000" y="4571640"/>
            <a:ext cx="38160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IS THE TOTAL COST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19320" y="2514600"/>
          <a:ext cx="4190760" cy="2362320"/>
        </p:xfrm>
        <a:graphic>
          <a:graphicData uri="http://schemas.openxmlformats.org/drawingml/2006/table">
            <a:tbl>
              <a:tblPr/>
              <a:tblGrid>
                <a:gridCol w="1892160"/>
                <a:gridCol w="677880"/>
                <a:gridCol w="676440"/>
                <a:gridCol w="944280"/>
              </a:tblGrid>
              <a:tr h="449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 Reading Moon Se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M Interplay Tablet Chai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7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9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ro Newport End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509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5943600" y="3962520"/>
          <a:ext cx="2133720" cy="1031760"/>
        </p:xfrm>
        <a:graphic>
          <a:graphicData uri="http://schemas.openxmlformats.org/drawingml/2006/table">
            <a:tbl>
              <a:tblPr/>
              <a:tblGrid>
                <a:gridCol w="890640"/>
                <a:gridCol w="1243080"/>
              </a:tblGrid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pp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33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$1,743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9T21:56:01Z</dcterms:created>
  <dc:creator>Prado, Abegail</dc:creator>
  <dc:description/>
  <dc:language>en-US</dc:language>
  <cp:lastModifiedBy>Prado, Abegail</cp:lastModifiedBy>
  <dcterms:modified xsi:type="dcterms:W3CDTF">2015-05-06T20:26:32Z</dcterms:modified>
  <cp:revision>25</cp:revision>
  <dc:subject/>
  <dc:title>BUDGET PROPOSAL</dc:title>
</cp:coreProperties>
</file>