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353-5E01-4338-B784-A74282DE20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EB0C-A2E4-49BE-8854-7F4EAEAA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AF9A9-C1F7-4B61-9500-FFA6E618F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3E8E7-3248-427B-89D6-39B88E3D7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7CD02-E811-4CA6-90C8-EB17FBBCB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3EE9D-FBA6-4DF6-94C6-0CD459A7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99F69-0C38-4E84-A969-9FAC6E858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E0F8-E0A5-4951-BB8E-529F0DFE0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284E4-0CC5-4BE3-A8C4-241EA965F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64FAD-C9BF-4833-B60F-C11BF330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6280A-41C6-457B-B3FB-6F212169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FA03-A796-43D5-91C4-CDBEA1705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BF09-6B96-4E9F-8B7D-30382BB93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E84E-A446-4F3F-91D3-98F2D66B8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ED566-21A6-4DED-B116-38D588974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550CC-6B67-4A64-8C66-21D03E39D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1E99-873B-41FB-AAC4-6E296CF02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AD4A4-F43C-4ECC-B69D-F3F6AA0DB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4D734D-F781-43F2-A283-C3F5EE95E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8440D-7E53-4595-8ED5-8D60F378F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CAFBC-125D-457F-9511-ACC70A2FE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72254-1091-4A82-B83D-1ED0811E9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762E-204C-4729-97C2-8774F637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C0D056-6E41-4776-95A4-DA1FF7DA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F902-C74B-4E92-A6B6-3E847235C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E4C87-7BDA-494E-A238-FAA4154A0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0701CE-06A1-4565-B40A-D5D4D7EA2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500AE-1778-43AC-937E-D16EC7CC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0F2A17-89E2-44BE-A31C-6AF2696BF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640397-AF5F-4522-A3DD-C9286609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57045-72F4-4769-A368-F1783204B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5FB5FE-8241-403E-A86F-32138F269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F6ABDB-C9CC-4130-89FD-59B91B6EB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F7F4-C49C-43B7-800F-D77CCBA86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76151-DB1A-4396-9E9A-230E02B27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BBF8FC-3630-425A-B4D0-A6ED40DFB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795359-DDAB-4C19-A1DD-EBF9648E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B3CB80-1FEC-4B20-BB6A-3DCD89A46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BA9310-36A4-4440-97E2-593D7B83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21EFB-0254-4C2C-913F-7D241C7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4070-3421-43F4-B6B3-9CD0EEC3F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E5551-E9AC-4812-8E1A-E9F1A4C10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F25D3-A1CD-40EC-A3A3-BFFD3EC5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84470-E50A-471B-BE29-135ED5F7E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8F927-17FC-4C65-8A1E-A94966F56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A35EE1-E9BB-49AD-86B0-798C6DEF3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D5E995-4E74-4A99-A8EB-8FE486D24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A2C4A-3767-4051-B80D-E9424F498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AB86-D5CD-484F-8593-C60298D5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535F31-CEA0-4C2B-B61A-28982A8E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3CAD7-7D0E-49FB-A995-7DC20CB9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156974-C6F3-425B-8993-B0644B92D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3DA677-EC09-45FD-A3F1-17AA8D86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DC9C6-C051-4A37-95EC-DBEA92BB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FCA97-F01B-4424-BFC0-CF42AB6BF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9DED-C7F3-45B7-BC32-737B236E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1F93E-F935-4993-9CC6-62EAB337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3C134-1F30-4CB4-B9B2-54F8E285D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9544A-BB86-42B3-B843-67AD21DE7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D0905-19E3-4445-8857-D539A9DC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072F3-A96F-40D2-A6C4-B0AE7E65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CCC129-25CF-4677-BF89-548C8FAB8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CADDF-6A1F-4849-A390-E667D6BF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D9BF1-FB1F-4177-863C-ED588CC0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919CB-691C-4397-856D-E0F0350E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21BE0-C90A-401A-9365-3C843AD45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C8A1-1FEE-4085-A88D-AE805AA7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CC193B-8C6B-4C62-91CD-133A280B4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68D8B1-3FC2-49B6-8192-233EF960E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A76843-69BD-4D06-BE02-699EB3E6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BB4620-6914-4E2C-9DA3-26F179F5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18EE0B-4485-4C72-93A1-689F0137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92180-0BEB-4050-8C1B-BA9EC326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DA2F01-AE97-461F-84EA-54603478D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A7995-4780-4FB1-8287-7AA0FB543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1888E-6E53-40EF-A0FA-F4B224574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B18F1-7CEF-4693-8002-2B568CC6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147A-5C8A-4185-85D9-894E45C08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E1E4E8-AD16-4254-A01F-035B0C15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BD7CC-F8AD-4777-AB4E-7C9A19913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ACCBAF-6272-430B-9688-C1BD8C896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A05F9A-FF7C-40FF-ABD8-F09A60095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DAAC7-8E87-45BE-8529-1EE1A3940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35E08B-C5EA-4F84-A499-05EF34307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BAAC1-B4EB-40B2-8307-AD1007122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3F3493-AAE9-47FF-B2C3-62A2F617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F82778-4D7C-48E3-BA04-4A9945FC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9DC8B-FA7E-4C7D-BAAE-298442CE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94D5-175C-401F-96C3-D98F2C05A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6A5641-34D6-4FAD-A021-E2DB4C8FD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01EB48-A890-422F-9178-B121C3B97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235D12-6F21-4B56-BABB-C68245A8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3CFDB-794B-402E-961E-75F56DDF7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DF3BA1-25EE-42F4-9E81-C05BB96C4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C107F-2AF7-41C6-897A-E0F82C20D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0CAF79-2F3B-4895-945D-BA6CF241D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FE99-A3DA-4A6A-84A1-8B956CF49255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36B2F-8E5F-45C9-84D7-1822D87F294A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89305-70CC-4E72-AD01-90C6A8E66DD1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72A18-DA67-43C5-8537-60D7AC313C5C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7EA1-3A50-4E13-AED1-E50D55B56053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E10BE-4DEC-43CD-B0D8-6CC74DFE5DC2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3CCE4-360D-4007-8CCD-C84C99C802D5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8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92202-ACCE-4E57-8414-DCC74E11751F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BUDGET PROPOSA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Abegail Prad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IS NEED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increase student use of the Media Center for pleasure reading by creating a comfortable and attractive reading area with high interest reading mater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Kid’s reading chair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RESEARCH SAY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en readers come to the library, the first impression is building and layout environment. The library should strive to create a friendly, embodying humanistic care, making the reader comfortable and unforgettable reading situation (Mei, 2014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628920" y="6216480"/>
            <a:ext cx="7235280" cy="307080"/>
          </a:xfrm>
          <a:prstGeom prst="rect">
            <a:avLst/>
          </a:prstGeom>
          <a:solidFill>
            <a:srgbClr val="766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i, X. (2014). To create a happy reading at library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Quality &amp; Quantity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8(2), 1143-1147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914400" y="2590920"/>
            <a:ext cx="403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 pieces Soft Reading Moon Se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838080" y="5334120"/>
            <a:ext cx="115740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5"/>
          <p:cNvSpPr/>
          <p:nvPr/>
        </p:nvSpPr>
        <p:spPr>
          <a:xfrm>
            <a:off x="4038480" y="3048120"/>
            <a:ext cx="41911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0”x15”x15”, 4 lb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gh-density foam seating keeps its shap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hthalate-free vinyl cov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asy cleaning with soap and wa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nti-slip base keeps seats in plac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34" x 33" x 29“, 62 lbs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otating 15"W x 11"D, laminated furniture board table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vides handy surfaces for laptops and paperwork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turdy wood frames are covered with thick   foam cushion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ocking 2" diameter casters 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864360" y="251460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2 pieces OFM Interplay Tablet Chai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8" name="Picture 7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209680" cy="19904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11574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20" x 20" x 20“, 23 lb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urable high-pressure laminate tops and a sturdy metal fram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930600" y="251460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Lesro Newport Reception End Tab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1157400" cy="380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1648080" cy="1447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044720" cy="1068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4"/>
          <a:stretch/>
        </p:blipFill>
        <p:spPr>
          <a:xfrm>
            <a:off x="2666880" y="4694400"/>
            <a:ext cx="990720" cy="1020600"/>
          </a:xfrm>
          <a:prstGeom prst="rect">
            <a:avLst/>
          </a:prstGeom>
          <a:ln w="0">
            <a:noFill/>
          </a:ln>
        </p:spPr>
      </p:pic>
      <p:cxnSp>
        <p:nvCxnSpPr>
          <p:cNvPr id="368" name="Straight Arrow Connector 10"/>
          <p:cNvCxnSpPr/>
          <p:nvPr/>
        </p:nvCxnSpPr>
        <p:spPr>
          <a:xfrm flipH="1" flipV="1">
            <a:off x="1523160" y="3656880"/>
            <a:ext cx="38196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69" name="Straight Arrow Connector 15"/>
          <p:cNvCxnSpPr/>
          <p:nvPr/>
        </p:nvCxnSpPr>
        <p:spPr>
          <a:xfrm>
            <a:off x="2286000" y="4571640"/>
            <a:ext cx="38160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IS THE TOTAL COST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19320" y="2514600"/>
          <a:ext cx="4190760" cy="2362320"/>
        </p:xfrm>
        <a:graphic>
          <a:graphicData uri="http://schemas.openxmlformats.org/drawingml/2006/table">
            <a:tbl>
              <a:tblPr/>
              <a:tblGrid>
                <a:gridCol w="1892160"/>
                <a:gridCol w="677880"/>
                <a:gridCol w="676440"/>
                <a:gridCol w="944280"/>
              </a:tblGrid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 Reading Moon Se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M Interplay Tablet Cha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7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9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ro Newport End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509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943600" y="3962520"/>
          <a:ext cx="2133720" cy="1031760"/>
        </p:xfrm>
        <a:graphic>
          <a:graphicData uri="http://schemas.openxmlformats.org/drawingml/2006/table">
            <a:tbl>
              <a:tblPr/>
              <a:tblGrid>
                <a:gridCol w="890640"/>
                <a:gridCol w="1243080"/>
              </a:tblGrid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pp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$1,743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21:56:01Z</dcterms:created>
  <dc:creator>Prado, Abegail</dc:creator>
  <dc:description/>
  <dc:language>en-US</dc:language>
  <cp:lastModifiedBy>Prado, Abegail</cp:lastModifiedBy>
  <dcterms:modified xsi:type="dcterms:W3CDTF">2015-05-06T20:26:32Z</dcterms:modified>
  <cp:revision>25</cp:revision>
  <dc:subject/>
  <dc:title>BUDGET PROPOSAL</dc:title>
</cp:coreProperties>
</file>