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57E9-A7FC-4760-8C37-022377ABC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7E10-C559-4F34-869E-0642B0669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12A1-8011-4D3E-9B7A-E92CAAEE5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71CD-A9F7-4813-BF1B-2F3BBCE1A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F0D93-F6B9-4306-A879-2CC3FC40E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61B7-EB75-44C8-B066-5AE1C81CB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B13E7-477F-46F1-91C6-9F9D7DE0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A3F3-91BF-4DA2-A7D7-80F7E1BFC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BE0A7-3B75-4B4C-8821-8E29B257F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A091-8B50-4246-9048-08B6FDFD4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D2B18-2FDB-4B8C-8910-1D7CAD608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3B56-BB6C-41CD-9D08-D34EE84FD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D1AE7-E498-4C9E-82A3-10BC6111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DAB9-90B4-49DD-B2C4-D6944CDF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8083-AA82-47BC-B41B-2F704F3E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34A80-4241-4E82-8658-590FABEC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234E-39C7-471A-838A-98663456F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A3D403-8E67-439C-9C48-10C374227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89A2D-64FF-4DAB-AD0E-F227DB751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1B14B-25A1-419F-8F6A-D5117EF13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F19AB-FA16-4BB0-B5C0-1ADE2FBA2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B1746-2B26-410E-BAAC-D3B5CB12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5C67-B305-44BD-BE2D-BDF075DFD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A33A5-250D-4BBF-A839-EDB02372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CCE6F7-3315-463D-A628-F9EF094E5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8621D-EE25-41A5-B7ED-39108FE0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161EA-25FE-4B2D-A6DF-24F271853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3680A7-1D52-4BA9-9EE6-0DD75578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6E19D3-FA7E-4B7A-BFFA-7F23801FF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4F113-B835-462E-9E81-078142569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FB9A6-14FC-474D-BD9E-D1B523605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93721F-D2D8-4B5A-9D8C-DD84A3122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B5059C-BCE8-43AA-9687-1B62F7A48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C41C1-4BDC-4D18-BDF9-02D06C0D4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EFE86-358C-44A9-A9AE-512E7C9B9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5A54FE-CF3B-4938-B13D-32C86B688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B0E42F-F91C-471D-9AC9-D3A380B0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EA1185-E5F2-4E90-BA2A-06FC96F6F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3FFFD9-B31B-45B4-939F-32E4DB8E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D5A36-61A8-4E0E-AE56-1C9BDB8A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D4C2F3-F6E0-4363-860E-9FAB08672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901A2-6EB5-4AEC-A570-B97C4B6D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7AEBA-134D-4831-BF2E-26E7A989D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074B79-3F2C-4471-AE44-58F7B60297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F129-E5B6-430F-BB70-17633438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301A4-88B0-4761-B43F-207DC875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76BB0A-BD65-4200-9C33-25723063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203942-6B1E-4C8D-BB8D-AEA291EF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F8DEC-0865-4E7A-A0DF-C70ECD31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68E32-6F8C-4BCF-B768-1B9DFCDFC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8C01EC-2F63-424D-B9B0-1B4A53F04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1AF49A-AA7D-4FE2-AA79-B82D513E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88E92-038A-4B0D-92CD-16954EF56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451880-34AB-496B-8C88-3A2B542C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E4A349-309C-47DC-898F-928A576BD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2DE6-102E-49AB-B687-822621953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FB53DC-37DD-4385-8EE4-BCC0B4D2C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6101F3-9769-48CD-B426-9F765F787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BF62BA-19CE-4723-88C1-A509454D5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209BD-843C-4A7A-B157-AEBD901D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D8C96F-1975-4955-806F-AD87C818E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392DCA-112E-4DF2-BDFA-BA190C920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56BDA6-3D39-4156-91C6-48127961D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BF85B-2B8F-4451-A230-853CA2F0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A9589-EAE9-4A8F-8855-30E77D00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FB0B58-DCBC-4408-80CB-F2A516768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9715-3DBD-466E-9C1D-5105CFFB0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60AF28-F506-436C-971C-83E0A02A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FBA43-64E8-44EA-A142-ADE8B01AB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0F08F-3D63-47B0-8264-80194809C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37901-7B88-45D3-A7FA-3E76ECAA7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4F5B0-FA3D-4C83-ACA5-3D461EA44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1F728E-A88D-4F2C-94B5-507A54628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1E0302-A9D6-4D59-9C11-44E1746A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BA8DEF-DEB3-43D3-841E-20B8F3A2E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639C5A-3F0D-4754-9903-70D63A122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B2EAAE-C378-4BAF-AE0D-D6391992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8025-B34C-42F4-8B85-7E679118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4A783-5234-48CA-889B-E1D90A105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74A09-4F72-4616-BEB7-9A3542ED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21376D-EE6B-4D5D-9F7A-7C8731EE8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1B76A-6E10-4CDF-A73D-0ED44B0B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8DD8D2-F5AB-451C-BA09-E397C70C1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1B7EAA-778E-44B4-B88F-A2E0D924F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E4DE3D-ECEC-4C0E-9901-EC88CE062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10A15-FD47-43A3-985C-55C41287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C40942-56C6-4ACB-BE81-A943F2A15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B6DC6-9CA7-46E3-BBE1-9B82EE66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868D-7961-4C36-906D-4E5A0ADF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C83B6B-020D-41FB-8FB6-C6041B405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625964-BA30-4B28-910D-198CD5DC1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3D6C3-01D0-419D-AD24-E0B58CF4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D4A79-EF4A-4F5D-B287-98321530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BF09C7-AC98-403C-9E06-5E5D3F15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AA7D69-B915-4405-994D-6AC16FF10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36E130-AC96-4A37-AFB2-243D09EA4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A0C2-4E47-4F6C-9D5E-079E0AE0198A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flourish2.png"/>
          <p:cNvPicPr/>
          <p:nvPr/>
        </p:nvPicPr>
        <p:blipFill>
          <a:blip r:embed="rId3"/>
          <a:stretch/>
        </p:blipFill>
        <p:spPr>
          <a:xfrm>
            <a:off x="0" y="2803680"/>
            <a:ext cx="9144000" cy="933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BC4F5-37C1-450B-B255-063470C3B0A0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B0B81-1B2C-440E-A29C-7D345E220343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flourish2.png"/>
          <p:cNvPicPr/>
          <p:nvPr/>
        </p:nvPicPr>
        <p:blipFill>
          <a:blip r:embed="rId3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flourish2.png"/>
          <p:cNvPicPr/>
          <p:nvPr/>
        </p:nvPicPr>
        <p:blipFill>
          <a:blip r:embed="rId4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5DB9-3EF5-4BD4-8EDF-4B89F580A120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B1560-ADC5-420B-9F4C-404D85C6A948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EE198-61D8-4FBF-98ED-ADBD9E1FD33E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1AD8-3DBA-44BE-9CEF-57436824D3ED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8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37302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5CDF-E613-46BF-ADD8-3D2AFEE766FB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185904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BUDGET PROPOSAL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Garamond"/>
              </a:rPr>
              <a:t>Abegail Prad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WHAT IS NEEDED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o increase student use of the Media Center for pleasure reading by creating a comfortable and attractive reading area with high interest reading material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Purchas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514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Kid’s reading chair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240" y="1294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DOES RESEARCH SAY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hen readers come to the library, the first impression is building and layout environment. The library should strive to create a friendly, embodying humanistic care, making the reader comfortable and unforgettable reading situation (Mei, 2014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TextBox 3"/>
          <p:cNvSpPr/>
          <p:nvPr/>
        </p:nvSpPr>
        <p:spPr>
          <a:xfrm>
            <a:off x="628920" y="6216480"/>
            <a:ext cx="7235280" cy="307080"/>
          </a:xfrm>
          <a:prstGeom prst="rect">
            <a:avLst/>
          </a:prstGeom>
          <a:solidFill>
            <a:srgbClr val="766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ei, X. (2014). To create a happy reading at library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Quality &amp; Quantity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8(2), 1143-1147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HAT AM I PROPOSING TO BUY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1447920" y="297180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6"/>
          <p:cNvSpPr/>
          <p:nvPr/>
        </p:nvSpPr>
        <p:spPr>
          <a:xfrm>
            <a:off x="914400" y="2590920"/>
            <a:ext cx="4038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5 pieces Soft Reading Moon Se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2"/>
          <a:stretch/>
        </p:blipFill>
        <p:spPr>
          <a:xfrm>
            <a:off x="838080" y="5334120"/>
            <a:ext cx="1157400" cy="38088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5"/>
          <p:cNvSpPr/>
          <p:nvPr/>
        </p:nvSpPr>
        <p:spPr>
          <a:xfrm>
            <a:off x="4038480" y="3048120"/>
            <a:ext cx="41911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0”x15”x15”, 4 lb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igh-density foam seating keeps its shap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hthalate-free vinyl cov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asy cleaning with soap and wat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nti-slip base keeps seats in plac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733560" y="2895480"/>
            <a:ext cx="4647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34" x 33" x 29“, 62 lbs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Rotating 15"W x 11"D, laminated furniture board table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provides handy surfaces for laptops and paperwork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turdy wood frames are covered with thick   foam cushion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Locking 2" diameter casters 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TextBox 3"/>
          <p:cNvSpPr/>
          <p:nvPr/>
        </p:nvSpPr>
        <p:spPr>
          <a:xfrm>
            <a:off x="864360" y="2514600"/>
            <a:ext cx="44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2 pieces OFM Interplay Tablet Chair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8" name="Picture 7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2209680" cy="199044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WHAT AM I PROPOSING TO BUY?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838080" y="5410080"/>
            <a:ext cx="11574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733560" y="2895480"/>
            <a:ext cx="4647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20" x 20" x 20“, 23 lb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durable high-pressure laminate tops and a sturdy metal fram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930600" y="2514600"/>
            <a:ext cx="43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Lesro Newport Reception End Tabl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WHAT AM I PROPOSING TO BUY?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1157400" cy="3808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"/>
          <p:cNvPicPr/>
          <p:nvPr/>
        </p:nvPicPr>
        <p:blipFill>
          <a:blip r:embed="rId2"/>
          <a:stretch/>
        </p:blipFill>
        <p:spPr>
          <a:xfrm>
            <a:off x="1295280" y="3733920"/>
            <a:ext cx="1648080" cy="14475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3"/>
          <a:stretch/>
        </p:blipFill>
        <p:spPr>
          <a:xfrm>
            <a:off x="457200" y="2895480"/>
            <a:ext cx="1044720" cy="10684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"/>
          <p:cNvPicPr/>
          <p:nvPr/>
        </p:nvPicPr>
        <p:blipFill>
          <a:blip r:embed="rId4"/>
          <a:stretch/>
        </p:blipFill>
        <p:spPr>
          <a:xfrm>
            <a:off x="2666880" y="4694400"/>
            <a:ext cx="990720" cy="1020600"/>
          </a:xfrm>
          <a:prstGeom prst="rect">
            <a:avLst/>
          </a:prstGeom>
          <a:ln w="0">
            <a:noFill/>
          </a:ln>
        </p:spPr>
      </p:pic>
      <p:cxnSp>
        <p:nvCxnSpPr>
          <p:cNvPr id="368" name="Straight Arrow Connector 10"/>
          <p:cNvCxnSpPr/>
          <p:nvPr/>
        </p:nvCxnSpPr>
        <p:spPr>
          <a:xfrm flipH="1" flipV="1">
            <a:off x="1523160" y="3656880"/>
            <a:ext cx="381960" cy="229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69" name="Straight Arrow Connector 15"/>
          <p:cNvCxnSpPr/>
          <p:nvPr/>
        </p:nvCxnSpPr>
        <p:spPr>
          <a:xfrm>
            <a:off x="2286000" y="4571640"/>
            <a:ext cx="381600" cy="305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IS THE TOTAL COST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219320" y="2514600"/>
          <a:ext cx="4190760" cy="2362320"/>
        </p:xfrm>
        <a:graphic>
          <a:graphicData uri="http://schemas.openxmlformats.org/drawingml/2006/table">
            <a:tbl>
              <a:tblPr/>
              <a:tblGrid>
                <a:gridCol w="1892160"/>
                <a:gridCol w="677880"/>
                <a:gridCol w="676440"/>
                <a:gridCol w="944280"/>
              </a:tblGrid>
              <a:tr h="449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ft Reading Moon Sea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9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M Interplay Tablet Chai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7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9.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ro Newport End 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1509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5943600" y="3962520"/>
          <a:ext cx="2133720" cy="1031760"/>
        </p:xfrm>
        <a:graphic>
          <a:graphicData uri="http://schemas.openxmlformats.org/drawingml/2006/table">
            <a:tbl>
              <a:tblPr/>
              <a:tblGrid>
                <a:gridCol w="890640"/>
                <a:gridCol w="1243080"/>
              </a:tblGrid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ipping 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33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$1,743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9T21:56:01Z</dcterms:created>
  <dc:creator>Prado, Abegail</dc:creator>
  <dc:description/>
  <dc:language>en-US</dc:language>
  <cp:lastModifiedBy>Prado, Abegail</cp:lastModifiedBy>
  <dcterms:modified xsi:type="dcterms:W3CDTF">2015-05-06T20:26:32Z</dcterms:modified>
  <cp:revision>25</cp:revision>
  <dc:subject/>
  <dc:title>BUDGET PROPOSAL</dc:title>
</cp:coreProperties>
</file>