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E68-D7C3-4B69-867F-C8DF7287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F3E-DA90-400F-AE63-A8D4DDA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467-6790-4795-B129-8C832B14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F1A-A9B4-47E3-9797-C82584F9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FD79-40A5-40E5-A9F4-CEA9F0A3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240C-585C-4717-A594-C402516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0503-6688-498F-BC0C-85C46FEC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54B1-8BFA-4B1E-B165-0B5CADF5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BBAC-8FCB-450B-9B7A-91467682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105-8520-494D-A76D-B4508B4D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056-523F-41EA-9B27-6573F9B6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32A-96BA-4DD9-8645-0E2DE0A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E64C-66BC-4C1C-8686-B8F28AF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5CE-7DF1-43B9-91E1-6642244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FE86-44F5-4FF3-8127-7823ABB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F76B-BDE8-4807-8CCA-E880134C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12E-B84E-40F6-A8BA-5592B158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4A0F-0A86-4AD8-B409-8AA03B98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0480-B958-4A1F-A3F9-E823EE0F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87F2-C356-4424-880F-A24DB815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4908-EF9E-44F0-B38A-AA213B00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0CB8-6E69-4D57-BCD6-4AC1F92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4C0-F8FE-45DD-B9A8-0A75709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896B-13FB-43BD-9EF7-946C1E6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8E4C-F11A-4AE8-A48E-8A5AF378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8EBA-2D53-4035-A725-81FA360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37F6-31CF-4137-954F-99451F83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E396-9572-4DDD-964B-11A2D823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0080-70EB-42D3-B31D-9D6995F0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A7D6-E18B-48BD-A559-6EF87AAF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310D-53CF-4BC8-94C6-997FDEE9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9BAC-6746-4559-ACF8-CF594B34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34D2-CF75-4C18-9928-1478FA83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F31-19FF-46C7-9754-5EBE8529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9990-672A-44CA-8569-03804C64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8BAC-D034-42AA-B44E-AEB11ED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6845-1FC0-43F6-A083-61012D27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5859-4E32-450E-B766-84BDB07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57BA-9EEB-42E1-9161-ACC5625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BC8B-FD82-45DC-984E-A78CFF4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CA6D8-8B20-4CE4-B95C-0CD3A826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92772-F932-4E21-96F6-09A8752E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3E43-AB31-4B10-ADE1-E9489F0E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2227-4FA5-45EA-A7EB-F8F6047F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B1B-9707-41BC-AA4C-D494CD28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8A78-029D-488E-AA1C-BAD1E0D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029A-EE6F-428A-ACAC-18417C72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9E6F-39E5-430C-9FC4-35D36CA3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82610-9A4F-44E5-9834-4CC1D0D8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12815-5B34-4BBB-858E-5DB6FF6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B673-B934-4C29-BE77-A00BC67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2D477-6B91-47CD-8F27-AFC4290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F604-B0A3-4905-B956-A32FDA8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59B5-B00B-4338-8710-F296F74B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6E92-E4ED-438E-891A-ECA78D0D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F26-BD0B-4FB1-ACEF-5F81280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2A15-6CD9-4C63-9CDA-8082AEEE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F10A-DE59-4E03-AAE3-7F8F157C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FEB7-2252-48ED-AA44-B82068C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02D8-D706-4CA2-9B2A-80DEECD0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60C92-FE61-4880-8157-B71D52D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102F-2C29-4BDB-B9EC-611656DA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EBFF9-7818-4484-BD07-470A0195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0676-1FEB-4954-9BFF-CC84F56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D9120-FF3B-40D7-9EE5-12D39A2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CBCD-2F8D-443C-9D88-56A73C0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901-EF27-4FEE-B9DB-28001B91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E063-06C7-494C-8D6D-64FE81E4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C98E-C9D4-4511-A11B-125BBB39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410E-9901-4E09-9A67-7F0F4C78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66C6-4C51-427F-972D-7F1C2739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9A426-8FF4-48A0-A507-AD353A72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572B1-38BC-420B-B6BE-828A1E13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E0BB1-2EC4-4127-A56E-C5526EB3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8D14-0353-4C15-81F7-1E444A76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EAE2-E9F9-4F98-AC7C-8876597C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95D72-9650-4B27-9FC2-48DA32E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24E-5A97-43EC-8F1B-1F5E253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7804-A6CC-4F4B-B6DF-3D59FD6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37F35-81F9-4758-9162-C464AB5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C237-B0DD-4A50-B64F-154734F0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E7E1-3E18-40F1-A609-60DA250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3908-C5FD-48D5-84BA-D3A04234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9E4D-B952-48EA-9A94-A08919D5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53CA0-010D-46B3-8358-F03EB989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11961-6DC3-4715-9495-8311D6D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5FE35-BCA0-4420-9D39-729BE0C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75B0-90E3-455E-BA79-FE0928E2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D49-938F-4EC5-8894-4F454C1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6B1DD-E322-4B58-A0D4-0B801D9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F8B15-67E7-48A7-84B3-8862CE4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C06C2-48D5-4C3F-A29E-D275D3F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3E52E-69E3-4639-BF29-707B50D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B6C60-BCF0-493E-B5C4-0165C55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8483-53D4-4469-A2A8-809234EF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13BDC-5623-483E-8B29-85CD2C4E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E514-57EB-4D70-9F20-6B8DD52DBBF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81C-CC08-4401-889A-86BB6833C39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83D3-4091-4887-9E2A-A170487E7911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D36D-EC87-4599-9074-F143AD6BFCC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D773-9D54-4145-B87F-77B123C03C7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87E6-4FA9-4A29-8CC9-CCBE72D172D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FB5-CADB-4674-A4F4-0B6D0373523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866-D79C-45DA-8160-2156E1F8F66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UDGET PROPOSA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Abegail Pra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increase student use of the Media Center for pleasure reading by creating a comfortable and attractive reading area with high interest reading mater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Kid’s reading chai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RESEARCH SAY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en readers come to the library, the first impression is building and layout environment. The library should strive to create a friendly, embodying humanistic care, making the reader comfortable and unforgettable reading situation (Mei, 2014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628920" y="6216480"/>
            <a:ext cx="7235280" cy="307080"/>
          </a:xfrm>
          <a:prstGeom prst="rect">
            <a:avLst/>
          </a:prstGeom>
          <a:solidFill>
            <a:srgbClr val="766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i, X. (2014). To create a happy reading at library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uality &amp; Quantit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(2), 1143-1147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14400" y="25909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 pieces Soft Reading Moon Se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15740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5"/>
          <p:cNvSpPr/>
          <p:nvPr/>
        </p:nvSpPr>
        <p:spPr>
          <a:xfrm>
            <a:off x="4038480" y="3048120"/>
            <a:ext cx="4191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0”x15”x15”, 4 lb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gh-density foam seating keeps its shap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hthalate-free vinyl co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asy cleaning with soap and wa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ti-slip base keeps seats in plac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34" x 33" x 29“, 62 lb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otating 15"W x 11"D, laminated furniture board table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vides handy surfaces for laptops and paperwork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turdy wood frames are covered with thick   foam cushion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ocking 2" diameter casters 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864360" y="251460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2 pieces OFM Interplay Tablet Chai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209680" cy="19904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1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0" x 20" x 20“, 23 lb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urable high-pressure laminate tops and a sturdy metal fram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930600" y="25146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Lesro Newport Reception End Ta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1157400" cy="380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16480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044720" cy="106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2666880" y="4694400"/>
            <a:ext cx="990720" cy="102060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10"/>
          <p:cNvCxnSpPr/>
          <p:nvPr/>
        </p:nvCxnSpPr>
        <p:spPr>
          <a:xfrm flipH="1" flipV="1">
            <a:off x="1523160" y="3656880"/>
            <a:ext cx="3819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2286000" y="457164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THE TOTAL COST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2514600"/>
          <a:ext cx="4190760" cy="2362320"/>
        </p:xfrm>
        <a:graphic>
          <a:graphicData uri="http://schemas.openxmlformats.org/drawingml/2006/table">
            <a:tbl>
              <a:tblPr/>
              <a:tblGrid>
                <a:gridCol w="1892160"/>
                <a:gridCol w="677880"/>
                <a:gridCol w="676440"/>
                <a:gridCol w="944280"/>
              </a:tblGrid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 Reading Moon Se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M Interplay Tablet Ch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ro Newport End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0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943600" y="3962520"/>
          <a:ext cx="2133720" cy="1031760"/>
        </p:xfrm>
        <a:graphic>
          <a:graphicData uri="http://schemas.openxmlformats.org/drawingml/2006/table">
            <a:tbl>
              <a:tblPr/>
              <a:tblGrid>
                <a:gridCol w="890640"/>
                <a:gridCol w="124308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p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$1,74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1:56:01Z</dcterms:created>
  <dc:creator>Prado, Abegail</dc:creator>
  <dc:description/>
  <dc:language>en-US</dc:language>
  <cp:lastModifiedBy>Prado, Abegail</cp:lastModifiedBy>
  <dcterms:modified xsi:type="dcterms:W3CDTF">2015-05-06T20:26:32Z</dcterms:modified>
  <cp:revision>25</cp:revision>
  <dc:subject/>
  <dc:title>BUDGET PROPOSAL</dc:title>
</cp:coreProperties>
</file>