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7390-9AF2-46DC-B03D-91DBBDCCB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26BEB-B859-4944-BB08-6D70068CF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BA2E-1B65-4068-8526-1E5DDA7BE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D373-B340-421E-A7CE-81C0EC471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CECD1-7A62-488B-A772-DCD8870DB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EE903-FDEB-4B16-9330-6029B8C4D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60C7-613C-44DF-B05A-D4DEDC7FA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2255C-A917-43D0-BBDB-FA471CA2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84FA4-8AF2-486D-AF6C-E90EA344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E45C2-54F1-4DE0-AA71-EF6F77663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511C0-00C8-4765-91E0-D6BBD582D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CA47-55E2-433A-ADE3-DA550D6D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CCB77-D328-4AEC-9598-728B381F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6B09D-AB2E-4323-980D-DAA7A1B6F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8EB94-B7D9-44E6-889C-3F09D0D65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3A301-61DF-47CA-9517-C2F53E3E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3C99F-1AD6-47A9-95E7-210C936F1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24364-4F7D-4C67-AEC4-81DC740E7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224F2-64BE-41FC-8D2F-6B5505ED9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D7652-56D5-42F2-A98C-6FF696A87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7AD9C-E262-483A-B762-E967950E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11323D-FBC5-4730-B228-C5790310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108D-E2CE-434C-B485-4F200EB0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9D0CA-33CD-46E3-B8F7-A188C2018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C8D2E-0506-46AE-B9AD-FA482C4A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7C61B-E550-489B-BADE-9C387300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777863-5742-4FE7-AFF1-9A4D816F5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7CB6F-9613-4730-8301-5C0774BC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9D2A5-B3EF-451C-A0A5-14E3E6F7E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47A243-5305-4077-A297-C5E631F27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8021BB-41E1-4B3D-97A6-7B0712926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3A250-574A-4AEB-B3A4-FE991823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B54FC-7C45-4EA8-81FF-4E2FBFE64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D4D9-17F7-4331-99CD-4AD9B4F58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F4885C-4996-49D9-AE19-E98351DA6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E85906-0FBE-457B-8EE9-FE88DC85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1161A-0656-4E11-82F6-C8604E69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58529-7EDB-4F1A-980E-C89C5410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38C28-9FCD-4471-B961-FFCD7FA0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6D33F2-9CFB-44C9-891E-EEB11CFB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46318-D315-4501-8B7A-B9DE48B1D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E7F4A-1305-445B-A792-1212D234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183D64-68DA-40C0-BF3E-88B90EDD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9946BD-EECC-4797-A756-32147B809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ADC-E485-4BBA-9185-18761D94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00469-6013-4A8B-93C1-059F67381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A2D2AE-D048-42D1-AFFC-91F061845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91674C-D38D-4D27-8CD0-78072B9E6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96D686-5015-449B-9B9A-74A3F203F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9F2EE8-83FB-4FF8-9546-3479B5A4C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3A91C-271F-47C3-82D9-5670DAAAC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59609-6E99-44CC-926A-2A0A080C4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75DBC-612C-4FC9-B682-6E827E28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3D76E-8C31-465F-8447-B7A57E8A1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6F0673-8858-4ED8-8B16-98712CCB3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04E1-BCE9-48BB-B284-39AEBF52F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61A53E-B39E-4F21-879B-F4D06F9E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3EBB28-5C4B-40C3-9B64-7662B490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C560F7-B3BF-471C-897A-D62F9BDC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5AC96-D076-4EE7-AA14-D9A0154B8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77B09-3CA2-4AF7-981B-4A706A8EA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235A68-0975-476D-AE2A-59D726BCA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3C179-71BF-4FEE-9CBE-345CD72A6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4C0704-9651-462E-BCB2-4B4F3B65A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A9DF4-0D9D-48EC-A9E3-8FF74DA20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20352C-F911-4FB9-AF2D-63FD904F7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A6E2-4980-4A0F-B919-F477FB1A9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CE6E0-E654-40E2-9A09-B3AAE75AC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60412B-DBD7-477D-B27A-755C92C14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12706D-0508-44FE-BB70-5D2476A03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85F5F-C678-4306-B7F9-02A01C89F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2D18F-3B14-4BC6-BE27-4C615789E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D4CB3-30DE-4A95-A804-C29B79148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3F0F84-1E85-4F97-8A1A-8AA333423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3C58A5-C46B-423E-8325-1A9DF5A5B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2516D2-B43B-4457-8D92-93504661B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A7B852-C34C-460F-BBF5-221F9FFE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3DC1-A528-4D1A-B75B-593B4DFE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BF290-E603-4970-948B-067579A71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8D92C9-F496-45F2-A3C0-A4BB5147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859E1-C527-45A6-ADD0-3B4C5E054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7C41B-5E2A-4068-90B3-E525F6537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4AEDF-CE28-43C6-A22D-D54D9FA0E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55A29-1B3C-404D-A5C9-ED6E4E16D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A88525-209D-4641-BE68-428132EE1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FB9685-A566-40AF-AC0C-7FA93F2ED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527022-1910-4383-8487-DACD1E216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91F846-EBE1-48DE-8D84-21ADCEDC4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11A1-BCD9-4BFE-AF5F-1B13C08F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6C922D-F307-48D5-B5A1-11EC262A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A999F1-D117-4AE8-A26B-F7A827CB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A16C1B-049D-4617-A756-D1606FB9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F485B-C72F-45A3-A6FA-7C3C67C1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25A04-CEF1-4D70-AAA4-B70111002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51ADB-57CD-4B82-A55A-7D6631A3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3279C7-0149-4C29-BAA1-349C66F67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1395B-78DA-4A2A-B079-C2AFCEED8327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flourish2.png"/>
          <p:cNvPicPr/>
          <p:nvPr/>
        </p:nvPicPr>
        <p:blipFill>
          <a:blip r:embed="rId3"/>
          <a:stretch/>
        </p:blipFill>
        <p:spPr>
          <a:xfrm>
            <a:off x="0" y="2803680"/>
            <a:ext cx="9144000" cy="933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1ED1E-8A4B-4E3A-B1CD-69CAD564514C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1B256-5B8D-4DC1-BC8C-A65B1539B138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8" descr="flourish2.png"/>
          <p:cNvPicPr/>
          <p:nvPr/>
        </p:nvPicPr>
        <p:blipFill>
          <a:blip r:embed="rId3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4A3C-B62C-47DD-80C8-DBB6899DE875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4AFF-36CD-41E0-9CCE-F76F2C375C2B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D653A-2372-40E3-BCF4-C0A9E3C10788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8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8B345-78DC-4573-BD02-393CDFE0D5C6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8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37302a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indent="944262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5FE0-90AD-48FB-97C9-2879EEAA8D49}" type="slidenum">
              <a:rPr b="1" lang="en-US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371600" y="185904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BUDGET PROPOSAL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595959"/>
                </a:solidFill>
                <a:latin typeface="Garamond"/>
              </a:rPr>
              <a:t>Abegail Prado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aramond"/>
              </a:rPr>
              <a:t>WHAT IS NEEDED?</a:t>
            </a:r>
            <a:endParaRPr b="0" lang="en-US" sz="3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o increase student use of the Media Center for pleasure reading by creating a comfortable and attractive reading area with high interest reading material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lvl="1" marL="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Purchas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lvl="1" marL="5144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Kid’s reading chair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371240" y="12949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DOES RESEARCH SAY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When readers come to the library, the first impression is building and layout environment. The library should strive to create a friendly, embodying humanistic care, making the reader comfortable and unforgettable reading situation (Mei, 2014).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TextBox 3"/>
          <p:cNvSpPr/>
          <p:nvPr/>
        </p:nvSpPr>
        <p:spPr>
          <a:xfrm>
            <a:off x="628920" y="6216480"/>
            <a:ext cx="7235280" cy="307080"/>
          </a:xfrm>
          <a:prstGeom prst="rect">
            <a:avLst/>
          </a:prstGeom>
          <a:solidFill>
            <a:srgbClr val="766f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Mei, X. (2014). To create a happy reading at library.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Quality &amp; Quantity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48(2), 1143-1147</a:t>
            </a:r>
            <a:endParaRPr b="0" lang="en-US" sz="1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120" y="12949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HAT AM I PROPOSING TO BUY?</a:t>
            </a:r>
            <a:endParaRPr b="0" lang="en-US" sz="2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1447920" y="2971800"/>
            <a:ext cx="2209680" cy="2209680"/>
          </a:xfrm>
          <a:prstGeom prst="rect">
            <a:avLst/>
          </a:prstGeom>
          <a:ln w="0">
            <a:noFill/>
          </a:ln>
        </p:spPr>
      </p:pic>
      <p:sp>
        <p:nvSpPr>
          <p:cNvPr id="353" name="TextBox 6"/>
          <p:cNvSpPr/>
          <p:nvPr/>
        </p:nvSpPr>
        <p:spPr>
          <a:xfrm>
            <a:off x="914400" y="2590920"/>
            <a:ext cx="40384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5 pieces Soft Reading Moon Seat</a:t>
            </a: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4" name="Picture 2" descr=""/>
          <p:cNvPicPr/>
          <p:nvPr/>
        </p:nvPicPr>
        <p:blipFill>
          <a:blip r:embed="rId2"/>
          <a:stretch/>
        </p:blipFill>
        <p:spPr>
          <a:xfrm>
            <a:off x="838080" y="5334120"/>
            <a:ext cx="1157400" cy="38088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5"/>
          <p:cNvSpPr/>
          <p:nvPr/>
        </p:nvSpPr>
        <p:spPr>
          <a:xfrm>
            <a:off x="4038480" y="3048120"/>
            <a:ext cx="4191120" cy="32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10”x15”x15”, 4 lb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High-density foam seating keeps its shap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hthalate-free vinyl cov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Easy cleaning with soap and water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nti-slip base keeps seats in plac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3733560" y="2895480"/>
            <a:ext cx="4647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34" x 33" x 29“, 62 lbs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Rotating 15"W x 11"D, laminated furniture board tablet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provides handy surfaces for laptops and paperwork.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turdy wood frames are covered with thick   foam cushion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Locking 2" diameter casters 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736732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TextBox 3"/>
          <p:cNvSpPr/>
          <p:nvPr/>
        </p:nvSpPr>
        <p:spPr>
          <a:xfrm>
            <a:off x="864360" y="2514600"/>
            <a:ext cx="444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2 pieces OFM Interplay Tablet Chairs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58" name="Picture 7" descr=""/>
          <p:cNvPicPr/>
          <p:nvPr/>
        </p:nvPicPr>
        <p:blipFill>
          <a:blip r:embed="rId1"/>
          <a:stretch/>
        </p:blipFill>
        <p:spPr>
          <a:xfrm>
            <a:off x="1143000" y="3048120"/>
            <a:ext cx="2209680" cy="199044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WHAT AM I PROPOSING TO BUY?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0" name="Picture 2" descr=""/>
          <p:cNvPicPr/>
          <p:nvPr/>
        </p:nvPicPr>
        <p:blipFill>
          <a:blip r:embed="rId2"/>
          <a:stretch/>
        </p:blipFill>
        <p:spPr>
          <a:xfrm>
            <a:off x="838080" y="5410080"/>
            <a:ext cx="1157400" cy="3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 txBox="1"/>
          <p:nvPr/>
        </p:nvSpPr>
        <p:spPr>
          <a:xfrm>
            <a:off x="3733560" y="2895480"/>
            <a:ext cx="464796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20" x 20" x 20“, 23 lbs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durable high-pressure laminate tops and a sturdy metal frame</a:t>
            </a: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2" name="TextBox 3"/>
          <p:cNvSpPr/>
          <p:nvPr/>
        </p:nvSpPr>
        <p:spPr>
          <a:xfrm>
            <a:off x="930600" y="2514600"/>
            <a:ext cx="43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Garamond"/>
              </a:rPr>
              <a:t>Lesro Newport Reception End Table</a:t>
            </a:r>
            <a:endParaRPr b="0" lang="en-US" sz="18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Garamond"/>
              </a:rPr>
              <a:t>WHAT AM I PROPOSING TO BUY?</a:t>
            </a:r>
            <a:endParaRPr b="0" lang="en-US" sz="25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364" name="Picture 2" descr=""/>
          <p:cNvPicPr/>
          <p:nvPr/>
        </p:nvPicPr>
        <p:blipFill>
          <a:blip r:embed="rId1"/>
          <a:stretch/>
        </p:blipFill>
        <p:spPr>
          <a:xfrm>
            <a:off x="838080" y="2133720"/>
            <a:ext cx="1157400" cy="38088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" descr=""/>
          <p:cNvPicPr/>
          <p:nvPr/>
        </p:nvPicPr>
        <p:blipFill>
          <a:blip r:embed="rId2"/>
          <a:stretch/>
        </p:blipFill>
        <p:spPr>
          <a:xfrm>
            <a:off x="1295280" y="3733920"/>
            <a:ext cx="1648080" cy="144756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3" descr=""/>
          <p:cNvPicPr/>
          <p:nvPr/>
        </p:nvPicPr>
        <p:blipFill>
          <a:blip r:embed="rId3"/>
          <a:stretch/>
        </p:blipFill>
        <p:spPr>
          <a:xfrm>
            <a:off x="457200" y="2895480"/>
            <a:ext cx="1044720" cy="106848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4" descr=""/>
          <p:cNvPicPr/>
          <p:nvPr/>
        </p:nvPicPr>
        <p:blipFill>
          <a:blip r:embed="rId4"/>
          <a:stretch/>
        </p:blipFill>
        <p:spPr>
          <a:xfrm>
            <a:off x="2666880" y="4694400"/>
            <a:ext cx="990720" cy="1020600"/>
          </a:xfrm>
          <a:prstGeom prst="rect">
            <a:avLst/>
          </a:prstGeom>
          <a:ln w="0">
            <a:noFill/>
          </a:ln>
        </p:spPr>
      </p:pic>
      <p:cxnSp>
        <p:nvCxnSpPr>
          <p:cNvPr id="368" name="Straight Arrow Connector 10"/>
          <p:cNvCxnSpPr/>
          <p:nvPr/>
        </p:nvCxnSpPr>
        <p:spPr>
          <a:xfrm flipH="1" flipV="1">
            <a:off x="1523160" y="3656880"/>
            <a:ext cx="381960" cy="2293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369" name="Straight Arrow Connector 15"/>
          <p:cNvCxnSpPr/>
          <p:nvPr/>
        </p:nvCxnSpPr>
        <p:spPr>
          <a:xfrm>
            <a:off x="2286000" y="4571640"/>
            <a:ext cx="381600" cy="3056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WHAT IS THE TOTAL COST?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219320" y="2514600"/>
          <a:ext cx="4190760" cy="2362320"/>
        </p:xfrm>
        <a:graphic>
          <a:graphicData uri="http://schemas.openxmlformats.org/drawingml/2006/table">
            <a:tbl>
              <a:tblPr/>
              <a:tblGrid>
                <a:gridCol w="1892160"/>
                <a:gridCol w="677880"/>
                <a:gridCol w="676440"/>
                <a:gridCol w="944280"/>
              </a:tblGrid>
              <a:tr h="44928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T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T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oft Reading Moon Sea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6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49.9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FM Interplay Tablet Chai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47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59.9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esro Newport End 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19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.9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1509.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72" name=""/>
          <p:cNvGraphicFramePr/>
          <p:nvPr/>
        </p:nvGraphicFramePr>
        <p:xfrm>
          <a:off x="5943600" y="3962520"/>
          <a:ext cx="2133720" cy="1031760"/>
        </p:xfrm>
        <a:graphic>
          <a:graphicData uri="http://schemas.openxmlformats.org/drawingml/2006/table">
            <a:tbl>
              <a:tblPr/>
              <a:tblGrid>
                <a:gridCol w="890640"/>
                <a:gridCol w="1243080"/>
              </a:tblGrid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ipping F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PR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$233.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$1,743.0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aramond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c2d69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9T21:56:01Z</dcterms:created>
  <dc:creator>Prado, Abegail</dc:creator>
  <dc:description/>
  <dc:language>en-US</dc:language>
  <cp:lastModifiedBy>Prado, Abegail</cp:lastModifiedBy>
  <dcterms:modified xsi:type="dcterms:W3CDTF">2015-05-06T20:26:32Z</dcterms:modified>
  <cp:revision>25</cp:revision>
  <dc:subject/>
  <dc:title>BUDGET PROPOSAL</dc:title>
</cp:coreProperties>
</file>