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0E3-8929-474A-BA9F-7E25C876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13C-67A8-4BBA-AED4-16D8E715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076-4EA2-47C3-8787-2A7DA3CA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417-6F14-4492-9DB2-549EA853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80DE-AA5E-4E36-9DC3-C7D0157B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8E51-20FE-4B5B-A638-3F8954A8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FF55-F0AD-4E62-9D15-BF8A83EB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C22F-0026-4E76-B357-4563C3A2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16AC-7CBB-4107-8F3C-B09C9126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7D90-ACC8-42AB-8BBF-524CD706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90D6-EF92-4497-A14D-896FF3EE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628-13EC-421B-A963-A41A6C26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5B44-AB28-4184-B578-0395712E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A89F-19D0-4C8C-87EB-87D97238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D1D4-5A58-4951-AEC9-64468B9B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13B3-49E8-475B-B8F9-3F0C9A83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1C07-797D-4968-90FC-668A0D8C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B7D0-5C21-47A7-9B3A-0BE34874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CB11-F601-4B52-879B-DAD9613D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EA2E-7794-435D-BB9B-B3B838A0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3157-2DEF-4D77-9AD1-E6889A68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CC4F-F5FB-4B91-9788-273D524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74B-1587-4DBA-B0AF-B924334B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6B07E-6759-4069-B952-1697AB40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B5BC-E55D-4F17-A504-3AD18590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AACB-DF7D-40BF-AEFD-F1A0FF18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0063-74A9-46A3-AF0D-4780C396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6D59-0758-46DC-B404-996D3520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FF549-AFF6-403F-817F-57C7AF46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E376-2331-4CCF-8BD4-338D9893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DE87-0AA7-4E40-8592-08BAD47E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12B61-7D0A-45CA-A8D4-7727C6D2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B0A6-35FF-46E2-A61B-E4D64F67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7A4-3DDF-4545-A506-01A66C51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0849B-E285-4933-847F-40A3BD8E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A470-CC92-4CE1-B060-4901DF93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99138-5C21-4D7B-8CB5-0F6576F1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8D9A3-38AE-481F-9AFE-62F7BE0C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864DE-2D26-41FB-9C1F-E1F2D872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843A-1A31-4058-9E32-13650F7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E0D6-39E3-4C98-9243-188CA4F4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98182-D0C4-41A3-A7B8-9B4A8D84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6C4A3-C8D0-4637-A9DB-97C4087C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2D90F-C001-4E04-826C-8AB9A25D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EB8-B3D5-4F73-8647-CFB8789E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7D62D-E3F5-4028-A888-B82F2CCD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365F9-7AA5-40E1-B867-48441808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BC064-4537-4B77-9D3A-478D4D24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03242-AFF5-4831-A93D-609AB652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35AB-0609-44D5-AF26-FA6CCF76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92D1-9E10-45E9-AD07-2A344D6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18321-DA9A-4FFF-A149-832884B7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7D4E1-05F2-4B3C-800C-E5E6D305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265D-9D6E-4A31-8137-89954C03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93FE7-FCD5-4815-B9F0-93E482A2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E95-9EED-4627-8339-0C6C0DAA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4DCE-08CE-4F44-870D-4CBCF920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F9E64-2FEE-42F5-B241-46485A6E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FE4F-0D62-4C04-8845-0C1B8741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2229B-1DB8-4049-84B3-6C9FCD46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744B9-7194-48DB-A129-251A3636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9D49B-40B2-439D-A0AD-33394483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6BA83-CB67-4CF2-8841-BE026537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33E0B-7FAF-458F-9626-8E12F79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1997E-C927-48D4-B9BC-F566010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000BE-280A-45DF-BAE7-4C4D37B1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A70-7ACA-403D-896A-37083725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6A792-73E7-4181-9246-71ADC352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01917-FD69-48E8-A575-E00784BA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B9494-FF39-4DD7-81E0-E1145340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3D71A-3D89-49EA-9515-596C70F3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AE088-6057-453E-8FA6-3921A7A6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78383-C314-4657-8FAD-7485B990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B5704-C84B-45A3-9AEA-6341F2EA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BA66E-9A7C-4778-8A70-A158BAD9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D89A0-3B80-41EF-B763-64146059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8C179-6157-41A9-8C4B-6D5126E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2B1-1D21-4249-9609-AF66DC77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1162E-1E49-420E-946A-CE5491F1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07F2-C0EB-4F8E-9C2B-F2FB98B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5E1F0-45FD-4F9E-B609-6D860B9A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0444E-3478-44E0-A3A9-ED865E24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00090-C0FD-49D2-8789-D9E5B151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88A6D-1C6D-4A77-B2B1-37918ACD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D5EAB-C6C8-401B-8D39-785EBBE8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2DD05-5FCE-410D-BCF3-01A4779C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35ACD-2E69-41AB-ADAE-A3878F57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F49F0-915A-4328-8101-8E486C4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093-27DA-43CE-AD6F-5DD0B467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CDDAE-F96A-4659-9716-B749218A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5F177-CF98-4735-A059-8A97EC0D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176C0-2B31-4C1B-904C-4B17BFE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01753-8A55-4C36-BDB5-59088DE4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99A66-E900-4AF3-A4B9-6619A15B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29018-1814-47AF-98A9-00297B72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20B15-3D3F-4FB5-BCD8-CB2B626A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DC45-2709-4828-9AA5-B50F1286D110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32C0-5FD5-4290-8D3E-4755C2BC390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9138-37DE-49EF-A700-99218D02B700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6843-5BDF-4988-91BD-97A9C7AC8E5E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4A17-6327-4F3E-A80D-230267AF2C4D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9D04-29A3-4975-8DDE-A50F962CCB84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460E-AB5B-4312-9BA2-B4E37891C77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8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0622-6366-4DE1-866E-88E201ED7BD8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BUDGET PROPOSA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Abegail Prad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IS NEED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increase student use of the Media Center for pleasure reading by creating a comfortable and attractive reading area with high interest reading mater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Kid’s reading chair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RESEARCH SAY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en readers come to the library, the first impression is building and layout environment. The library should strive to create a friendly, embodying humanistic care, making the reader comfortable and unforgettable reading situation (Mei, 2014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628920" y="6216480"/>
            <a:ext cx="7235280" cy="307080"/>
          </a:xfrm>
          <a:prstGeom prst="rect">
            <a:avLst/>
          </a:prstGeom>
          <a:solidFill>
            <a:srgbClr val="766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i, X. (2014). To create a happy reading at library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Quality &amp; Quantity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8(2), 1143-1147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914400" y="2590920"/>
            <a:ext cx="403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 pieces Soft Reading Moon Se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838080" y="5334120"/>
            <a:ext cx="115740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5"/>
          <p:cNvSpPr/>
          <p:nvPr/>
        </p:nvSpPr>
        <p:spPr>
          <a:xfrm>
            <a:off x="4038480" y="3048120"/>
            <a:ext cx="41911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0”x15”x15”, 4 lb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gh-density foam seating keeps its shap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hthalate-free vinyl co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asy cleaning with soap and wa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ti-slip base keeps seats in plac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34" x 33" x 29“, 62 lbs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otating 15"W x 11"D, laminated furniture board table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vides handy surfaces for laptops and paperwork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turdy wood frames are covered with thick   foam cushion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ocking 2" diameter casters 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864360" y="251460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2 pieces OFM Interplay Tablet Chai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209680" cy="19904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1157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20" x 20" x 20“, 23 lb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urable high-pressure laminate tops and a sturdy metal fram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930600" y="251460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Lesro Newport Reception End Ta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1157400" cy="380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1648080" cy="1447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044720" cy="1068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4"/>
          <a:stretch/>
        </p:blipFill>
        <p:spPr>
          <a:xfrm>
            <a:off x="2666880" y="4694400"/>
            <a:ext cx="990720" cy="1020600"/>
          </a:xfrm>
          <a:prstGeom prst="rect">
            <a:avLst/>
          </a:prstGeom>
          <a:ln w="0">
            <a:noFill/>
          </a:ln>
        </p:spPr>
      </p:pic>
      <p:cxnSp>
        <p:nvCxnSpPr>
          <p:cNvPr id="368" name="Straight Arrow Connector 10"/>
          <p:cNvCxnSpPr/>
          <p:nvPr/>
        </p:nvCxnSpPr>
        <p:spPr>
          <a:xfrm flipH="1" flipV="1">
            <a:off x="1523160" y="3656880"/>
            <a:ext cx="38196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9" name="Straight Arrow Connector 15"/>
          <p:cNvCxnSpPr/>
          <p:nvPr/>
        </p:nvCxnSpPr>
        <p:spPr>
          <a:xfrm>
            <a:off x="2286000" y="4571640"/>
            <a:ext cx="38160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IS THE TOTAL COST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19320" y="2514600"/>
          <a:ext cx="4190760" cy="2362320"/>
        </p:xfrm>
        <a:graphic>
          <a:graphicData uri="http://schemas.openxmlformats.org/drawingml/2006/table">
            <a:tbl>
              <a:tblPr/>
              <a:tblGrid>
                <a:gridCol w="1892160"/>
                <a:gridCol w="677880"/>
                <a:gridCol w="676440"/>
                <a:gridCol w="944280"/>
              </a:tblGrid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 Reading Moon Se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M Interplay Tablet Cha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7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9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ro Newport End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509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943600" y="3962520"/>
          <a:ext cx="2133720" cy="1031760"/>
        </p:xfrm>
        <a:graphic>
          <a:graphicData uri="http://schemas.openxmlformats.org/drawingml/2006/table">
            <a:tbl>
              <a:tblPr/>
              <a:tblGrid>
                <a:gridCol w="890640"/>
                <a:gridCol w="124308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pp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$1,743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21:56:01Z</dcterms:created>
  <dc:creator>Prado, Abegail</dc:creator>
  <dc:description/>
  <dc:language>en-US</dc:language>
  <cp:lastModifiedBy>Prado, Abegail</cp:lastModifiedBy>
  <dcterms:modified xsi:type="dcterms:W3CDTF">2015-05-06T20:26:32Z</dcterms:modified>
  <cp:revision>25</cp:revision>
  <dc:subject/>
  <dc:title>BUDGET PROPOSAL</dc:title>
</cp:coreProperties>
</file>